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100-87DC-4B1F-B456-E02891F8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B5F-FDFA-4FB0-B4D7-54CB6EF1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BD1-C86E-4F5B-902E-80A95001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F1F-13F0-475A-9734-E682311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9C6-4CCA-4784-98CC-3BC1E2EB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AEAE-49F1-44DA-88BC-1AA23E5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6612-CA62-47F8-BF04-712AAD83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431-0DDB-46F0-BFE8-8E06670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82DC-897C-4FC8-861D-AB186119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AF96-818D-414D-A3D8-2DF8EBF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C1FC-6AB9-4052-B8C0-F037AF0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AED-5726-422B-9BB0-56E2F33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8BA1-68F9-46A4-A82A-A2F18CD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3B35-2368-4E9A-8BAA-E011D24F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D69F-0C59-4C72-AC4D-CC2D451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1078-0C6F-49CD-90C5-F6A21325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052-9467-46F4-831D-C62530A0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49F-FDC1-45F4-95FD-5BFE36F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CD5-36BC-453A-8B18-E22BBEA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D16-BC78-48AB-98D2-11946FA5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EC1-4971-4683-9CA9-54715C09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DEB-61E9-41C9-80C7-B3BEEC57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2E4-5073-4527-ACF9-124D5AD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E5B-D681-4687-A780-27E85D8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43A-659C-44F2-BF6D-CFBAF4B657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7DEF-C553-4F22-935F-2948F4314E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83/K=Pericles/v=2/l=IVI/*-http://www.american-pictures.com/genealogy/descent/photos/Pericl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S=96062883/K=Pericles/v=2/l=IVI/*-http://www.american-pictures.com/genealogy/descent/photos/Pericl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8b766"/>
                </a:solidFill>
                <a:latin typeface="Copperplate Gothic Bold"/>
              </a:rPr>
              <a:t>GOLDEN AGE </a:t>
            </a:r>
            <a:br>
              <a:rPr sz="6600"/>
            </a:br>
            <a:r>
              <a:rPr b="0" lang="en-US" sz="6600" spc="-1" strike="noStrike">
                <a:solidFill>
                  <a:srgbClr val="d8b766"/>
                </a:solidFill>
                <a:latin typeface="Copperplate Gothic Bold"/>
              </a:rPr>
              <a:t>of ATHEN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Picture 5" descr="Peric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514600"/>
            <a:ext cx="2219040" cy="42670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2666880" y="2971800"/>
            <a:ext cx="373860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bbd71"/>
                </a:solidFill>
                <a:latin typeface="Copperplate Gothic Light"/>
              </a:rPr>
              <a:t>PERIC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bbd71"/>
              </a:solidFill>
              <a:latin typeface="Copperplate Gothic Light"/>
              <a:ea typeface="Copperplate Gothic Ligh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Copperplate Gothic Bold"/>
              </a:rPr>
              <a:t>AFTERMATH of the 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Copperplate Gothic Bold"/>
              </a:rPr>
              <a:t>PERSIAN WAR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hens had been destroyed…479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ity had to be rebuil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hens had become most powerful city-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came most respected because of Battles of Marathon and Salam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Copperplate Gothic Bold"/>
              </a:rPr>
              <a:t>PERICL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cles was 15 when Athens was destr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ed to rebuild Athens into greatest city of its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cles became famous law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ected public spe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cles elected “general” in 460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was a one-year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cles was re-elected many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Peric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65920" y="0"/>
            <a:ext cx="114948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Copperplate Gothic Bold"/>
              </a:rPr>
              <a:t>PERICL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Picture 4" descr="Pericles"/>
          <p:cNvPicPr/>
          <p:nvPr/>
        </p:nvPicPr>
        <p:blipFill>
          <a:blip r:embed="rId1"/>
          <a:stretch/>
        </p:blipFill>
        <p:spPr>
          <a:xfrm>
            <a:off x="8080200" y="0"/>
            <a:ext cx="91152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7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ericles controlled Athens from 460BC-429BC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7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ericles set 3 goals to make Athens great…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7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GOAL #1:  PROTE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Never wanted Athens to be destroyed agai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uilt the “Long Walls”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774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Walls made it impossible to surround the city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uilt a stronger navy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774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Wanted Athens to be unbeatable on the se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Copperplate Gothic Bold"/>
              </a:rPr>
              <a:t>THE LONG WAL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4" name="Picture 4" descr="06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5383080"/>
          </a:xfrm>
          <a:prstGeom prst="rect">
            <a:avLst/>
          </a:prstGeom>
          <a:ln w="0">
            <a:noFill/>
          </a:ln>
        </p:spPr>
      </p:pic>
      <p:sp>
        <p:nvSpPr>
          <p:cNvPr id="165" name="Line 5"/>
          <p:cNvSpPr/>
          <p:nvPr/>
        </p:nvSpPr>
        <p:spPr>
          <a:xfrm>
            <a:off x="304920" y="2209680"/>
            <a:ext cx="3124080" cy="20574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3048120" y="4572000"/>
            <a:ext cx="685800" cy="2286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 flipH="1" flipV="1">
            <a:off x="7086600" y="4495680"/>
            <a:ext cx="1828800" cy="533520"/>
          </a:xfrm>
          <a:prstGeom prst="line">
            <a:avLst/>
          </a:prstGeom>
          <a:ln w="349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Copperplate Gothic Bold"/>
              </a:rPr>
              <a:t>PERICL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 #2:  BEAU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anted Athens to be most beautiful city in the wor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tored and rebuilt temp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uilt the Parthenon on the Acropoli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henon was 60ft high, had 46 colum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 ft. tall gold and ivory statue of Athena insi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uilt to honor Athena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qualities of wisdom and strong warrior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Pericles"/>
          <p:cNvPicPr/>
          <p:nvPr/>
        </p:nvPicPr>
        <p:blipFill>
          <a:blip r:embed="rId1"/>
          <a:stretch/>
        </p:blipFill>
        <p:spPr>
          <a:xfrm>
            <a:off x="7315200" y="0"/>
            <a:ext cx="91116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Copperplate Gothic Bold"/>
              </a:rPr>
              <a:t>The Parthen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Picture 7" descr="Acropolis_Athens"/>
          <p:cNvPicPr/>
          <p:nvPr/>
        </p:nvPicPr>
        <p:blipFill>
          <a:blip r:embed="rId1"/>
          <a:stretch/>
        </p:blipFill>
        <p:spPr>
          <a:xfrm>
            <a:off x="4038480" y="3654360"/>
            <a:ext cx="5105520" cy="320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arthenon"/>
          <p:cNvPicPr/>
          <p:nvPr/>
        </p:nvPicPr>
        <p:blipFill>
          <a:blip r:embed="rId2"/>
          <a:stretch/>
        </p:blipFill>
        <p:spPr>
          <a:xfrm>
            <a:off x="0" y="914400"/>
            <a:ext cx="556272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Copperplate Gothic Bold"/>
              </a:rPr>
              <a:t>PERICL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AL #3: STRONGER DEMOCRA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ed to make sure Democracy was eq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 power evenly between rich and po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d all government wor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allowed ALL citizens to particip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izens could take time from work to be part in democ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Pericles"/>
          <p:cNvPicPr/>
          <p:nvPr/>
        </p:nvPicPr>
        <p:blipFill>
          <a:blip r:embed="rId1"/>
          <a:stretch/>
        </p:blipFill>
        <p:spPr>
          <a:xfrm>
            <a:off x="7315200" y="0"/>
            <a:ext cx="91116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Copperplate Gothic Bold"/>
              </a:rPr>
              <a:t>THE GOLDEN AG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CLAS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S: Men born in Ath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CITIZENS: Metics- workers from outside Athens.. Could not vote, but could own busi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: well-treated, could save up $$ and buy their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: girls married at age 15, marriages arranged, stayed home, could not own busi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ENS: “The School of Greec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er of Greek literature, art, philosophy, science and archite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3:50:52Z</dcterms:created>
  <dc:creator>Jennifer Simonds</dc:creator>
  <dc:description/>
  <dc:language>en-US</dc:language>
  <cp:lastModifiedBy>Rebecca Lopez</cp:lastModifiedBy>
  <dcterms:modified xsi:type="dcterms:W3CDTF">2015-10-08T06:57:03Z</dcterms:modified>
  <cp:revision>3</cp:revision>
  <dc:subject/>
  <dc:title>GOLDEN AGE  of ATHENS</dc:title>
</cp:coreProperties>
</file>